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979-2BB6-45FC-BFF6-1BFF66DA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B83-B57D-4610-83D9-EC482514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41B-FED3-4CF1-9FD7-134E11A9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9C3B-B631-418C-B349-4AACE803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648-EE2C-4E68-B43B-39BC75C2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E27-BF8A-43BD-91CE-DC42DF50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9A0-F321-4660-AF10-3213665F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DE6-7447-49E2-BDDC-AFE48434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FDD-3EE5-4D45-B231-3DEF94E3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17E-C0B1-461A-BF75-FC4CCD3E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539-9D13-49F4-9C9C-4FD32BA8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B82-98CA-47EC-B2C1-EB6A953C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7DF4-106C-4F92-9CE4-EE9955E772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689120" y="1352520"/>
            <a:ext cx="62960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кольку величины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и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не меняются, то будем име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ставляя числовые данные, найдём, ч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643200" y="2214720"/>
            <a:ext cx="1911600" cy="1309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3857760" y="4786200"/>
            <a:ext cx="17859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400" y="1356840"/>
            <a:ext cx="82580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1. В опыте Юнга отверстия освещались монохроматическим светом (600 нм). Расстояние между отверстиями 1 мм, расстояние от отверстий до экрана 3 м. Найти положение трёх первых светлых пол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2.Найти радиусы первых пяти зон Френеля для плоской волны, если расстояние от волновой поверхности до точки наблюдения 1 м. Длина волны света 500 н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При фотоэффекте с платиновой поверхности электроны задерживаются разностью потенциалов 0,8 В. Найти длину волны применяемого  облучения и предельную длину волны, при которой ещё возможен фотоэффек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4. При комптоновском рассеянии энергия падающего фотона распределяется поровну между рассеянным фотом и электроном отдачи. Угол рассеяния равен 90 градусов. Найти энергию и импульс рассеянного фото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лновая оптика – это раздел оптики, учитывающий волновые свойства света (электромагнитных вол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вантовая оптика – это раздел оптики, учитывающий корпускулярные свойства электромагнитного изл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вления, в которых проявляются волновые свойства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нтерференция и дифра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вления, в которых проявляются корпускулярные (квантовые) свойства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Фотоэффект и эффект Компт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3840" y="121392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ифракция – это огибание волнами препятств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нтерференция – это наложение когерентных волн, в результате которого происходит перераспределение энергии, в результате которых возникают максимумы и миниму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отоэффект – это явление вырывания электронов из вещества под действием св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 сколько раз увеличится расстояние между соседними интерференционными полосами на экране в опыте Юнга, если зелёный светофильтр (500 нм) заменить красным светофильтром (650 нм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ловие интерференционного максим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ловие интерференционного миним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500280" y="2000160"/>
            <a:ext cx="221796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448000" cy="752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3571920" y="5715000"/>
            <a:ext cx="17143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сстояние между двумя соседними максимумами интенсивности называется расстоянием между интерференционными полосами, а расстояние между двумя соседними минимумами интенсивности – шириной интерференционной поло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(1) и (2) следует, что расстояние между полосами и ширина полосы имеют одинаковое значение, рав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3786120" y="3786120"/>
            <a:ext cx="1647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огда расстояние между интерференционными полосами при зелёном светофильтре рав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и крас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де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– расстояние от экрана до источников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3571920" y="2214720"/>
            <a:ext cx="1643040" cy="8715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3571920" y="3929040"/>
            <a:ext cx="15717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5:34:26Z</dcterms:created>
  <dc:creator>Михаил</dc:creator>
  <dc:description/>
  <dc:language>en-US</dc:language>
  <cp:lastModifiedBy>Михаил</cp:lastModifiedBy>
  <dcterms:modified xsi:type="dcterms:W3CDTF">2010-10-17T20:03:36Z</dcterms:modified>
  <cp:revision>6</cp:revision>
  <dc:subject/>
  <dc:title>Слайд 1</dc:title>
</cp:coreProperties>
</file>